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ver AT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zio U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etto della simu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TCP su rete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servizio best-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609480"/>
            <a:ext cx="7772400" cy="11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ATM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8560" y="1859040"/>
            <a:ext cx="5029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chema della coda con priorità è il seg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i IP, LLC/SNAP, AAL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sorg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ggiungono i byte di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 per IP+8 per LLC/SNAP+8 per AAL 5=36 byt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destin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tolgono i 36 byte di over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TCP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rsione TCP implementata sarà la versione Reno miglior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start con soglia stimata e 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on Avoid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Retrasmit e Fast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da proposta Jacobs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da proposta Ho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contri selettivi oppure non selet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ura del RTT come da RFC 1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TCP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riceve il pacchet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 sequenz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iorna gli indi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 il riscontro immediat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uori sequenz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già riscontrato lo scar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menti, manda il riscontro duplic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TCP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ch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testazione contiene i seguenti cam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o di sequenza del primo byte (SEG.SEQ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umero di riscontro dell’ultimo byte ricevuto in sequenza (SEG.ACK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unghezza del pacchetto (SEG.LEN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mensione della finestra di ricezione (SEG.WND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 di riscontro (ACK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ampo di timestamp per la misura del RT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di RFC 1323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ampo di riscontro selettiv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blocch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l flag di S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sor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 numeri, caratteristiche del traffic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traffico persisten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Þ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e del seg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a destin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ve i segmen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a i parametri end-to-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ametr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itardo di trasmissione dei link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=A, B, C, D, E, F,G e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dei link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=A, B, C, D, E, F,G e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atteristiche dei traff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disturb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rior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atteristiche della multipl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ametr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vello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inestra massima di trasmissi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mensione massima del pacchet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o switch e le sorg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mensione dei buff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empi di inizio trasmiss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zion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in evidenza quali effetti portano le caratteristiche, proposte nel tempo, per TCP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hrouput utile, cioè il rapporto tra numero di segmenti utili e segmenti trasmes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itardo medio dei pacchetti ricevuti con successo alla destinaz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quità ottenuta nel soddisfare le varie connessioni, che si differenziano per esempio per dista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o ciò viene fatto in un ambito di rete ATM con servizi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-eff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m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elle di dimensione ugu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zion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possibi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lioramento del servizio UBR dello strato ATM, per evitare effetti qual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-of-Packet Dropp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zione di meccanismi di congestion avoidance e Recovery qu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 (Early Packet Discar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(Random Packet Discar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zione con servizio AB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ttu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cal IP over AT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828800"/>
            <a:ext cx="160020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98560" y="196524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79440" y="265104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572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47920" y="333684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8560" y="4022640"/>
            <a:ext cx="162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79440" y="470844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79440" y="53942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2578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52578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1828800"/>
            <a:ext cx="160020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3886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994440" y="196524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75680" y="265104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4572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257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43800" y="333684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994440" y="4022640"/>
            <a:ext cx="162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375680" y="470844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75680" y="53942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36840" y="53942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4240" y="53942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49800" y="6207840"/>
            <a:ext cx="529560" cy="462240"/>
          </a:xfrm>
          <a:custGeom>
            <a:avLst/>
            <a:gdLst/>
            <a:ahLst/>
            <a:rect l="0" t="0" r="r" b="b"/>
            <a:pathLst>
              <a:path w="1471" h="1284">
                <a:moveTo>
                  <a:pt x="0" y="0"/>
                </a:moveTo>
                <a:lnTo>
                  <a:pt x="741" y="1284"/>
                </a:lnTo>
                <a:lnTo>
                  <a:pt x="1471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4600" y="6207840"/>
            <a:ext cx="529560" cy="462240"/>
          </a:xfrm>
          <a:custGeom>
            <a:avLst/>
            <a:gdLst/>
            <a:ahLst/>
            <a:rect l="0" t="0" r="r" b="b"/>
            <a:pathLst>
              <a:path w="1471" h="1284">
                <a:moveTo>
                  <a:pt x="0" y="0"/>
                </a:moveTo>
                <a:lnTo>
                  <a:pt x="741" y="1284"/>
                </a:lnTo>
                <a:lnTo>
                  <a:pt x="1471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7200" y="6209640"/>
            <a:ext cx="529560" cy="462240"/>
          </a:xfrm>
          <a:custGeom>
            <a:avLst/>
            <a:gdLst/>
            <a:ahLst/>
            <a:rect l="0" t="0" r="r" b="b"/>
            <a:pathLst>
              <a:path w="1471" h="1284">
                <a:moveTo>
                  <a:pt x="0" y="0"/>
                </a:moveTo>
                <a:lnTo>
                  <a:pt x="741" y="1284"/>
                </a:lnTo>
                <a:lnTo>
                  <a:pt x="1471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943600"/>
            <a:ext cx="914760" cy="457560"/>
          </a:xfrm>
          <a:custGeom>
            <a:avLst/>
            <a:gdLst/>
            <a:ahLst/>
            <a:rect l="0" t="0" r="r" b="b"/>
            <a:pathLst>
              <a:path fill="none" w="2541" h="1271">
                <a:moveTo>
                  <a:pt x="0" y="0"/>
                </a:moveTo>
                <a:lnTo>
                  <a:pt x="0" y="1271"/>
                </a:lnTo>
                <a:lnTo>
                  <a:pt x="2541" y="1271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94360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1271"/>
                </a:moveTo>
                <a:lnTo>
                  <a:pt x="1906" y="1271"/>
                </a:lnTo>
                <a:lnTo>
                  <a:pt x="1906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94360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0"/>
                </a:moveTo>
                <a:lnTo>
                  <a:pt x="0" y="1271"/>
                </a:lnTo>
                <a:lnTo>
                  <a:pt x="1906" y="1271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94360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1271"/>
                </a:moveTo>
                <a:lnTo>
                  <a:pt x="1906" y="1271"/>
                </a:lnTo>
                <a:lnTo>
                  <a:pt x="1906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594360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0"/>
                </a:moveTo>
                <a:lnTo>
                  <a:pt x="0" y="1271"/>
                </a:lnTo>
                <a:lnTo>
                  <a:pt x="1906" y="1271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594360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1271"/>
                </a:moveTo>
                <a:lnTo>
                  <a:pt x="1906" y="1271"/>
                </a:lnTo>
                <a:lnTo>
                  <a:pt x="1906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03480" y="135576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60880" y="478476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18280" y="478476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070760" y="1355760"/>
            <a:ext cx="15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ttura di 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74320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0" y="13"/>
                </a:moveTo>
                <a:lnTo>
                  <a:pt x="264" y="0"/>
                </a:lnTo>
                <a:lnTo>
                  <a:pt x="1294" y="1289"/>
                </a:lnTo>
                <a:lnTo>
                  <a:pt x="1527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1527" y="13"/>
                </a:moveTo>
                <a:lnTo>
                  <a:pt x="1262" y="0"/>
                </a:lnTo>
                <a:lnTo>
                  <a:pt x="233" y="1289"/>
                </a:lnTo>
                <a:lnTo>
                  <a:pt x="0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74320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0" y="13"/>
                </a:moveTo>
                <a:lnTo>
                  <a:pt x="264" y="0"/>
                </a:lnTo>
                <a:lnTo>
                  <a:pt x="1294" y="1289"/>
                </a:lnTo>
                <a:lnTo>
                  <a:pt x="1527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1527" y="13"/>
                </a:moveTo>
                <a:lnTo>
                  <a:pt x="1262" y="0"/>
                </a:lnTo>
                <a:lnTo>
                  <a:pt x="233" y="1289"/>
                </a:lnTo>
                <a:lnTo>
                  <a:pt x="0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74320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0" y="13"/>
                </a:moveTo>
                <a:lnTo>
                  <a:pt x="264" y="0"/>
                </a:lnTo>
                <a:lnTo>
                  <a:pt x="1294" y="1289"/>
                </a:lnTo>
                <a:lnTo>
                  <a:pt x="1527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2967120"/>
            <a:ext cx="549720" cy="464040"/>
          </a:xfrm>
          <a:custGeom>
            <a:avLst/>
            <a:gdLst/>
            <a:ahLst/>
            <a:rect l="0" t="0" r="r" b="b"/>
            <a:pathLst>
              <a:path fill="none" w="1527" h="1289">
                <a:moveTo>
                  <a:pt x="1527" y="13"/>
                </a:moveTo>
                <a:lnTo>
                  <a:pt x="1262" y="0"/>
                </a:lnTo>
                <a:lnTo>
                  <a:pt x="233" y="1289"/>
                </a:lnTo>
                <a:lnTo>
                  <a:pt x="0" y="128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74320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27672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29718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4290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200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3200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96252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320040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05740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2133720"/>
            <a:ext cx="38088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438280"/>
            <a:ext cx="381240" cy="533880"/>
          </a:xfrm>
          <a:custGeom>
            <a:avLst/>
            <a:gdLst/>
            <a:ahLst/>
            <a:rect l="0" t="0" r="r" b="b"/>
            <a:pathLst>
              <a:path fill="none" w="1059" h="1483">
                <a:moveTo>
                  <a:pt x="0" y="1483"/>
                </a:moveTo>
                <a:lnTo>
                  <a:pt x="1059" y="1483"/>
                </a:lnTo>
                <a:lnTo>
                  <a:pt x="105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32080" y="27273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985160" y="31845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32080" y="3260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89480" y="20415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342900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1483"/>
                </a:moveTo>
                <a:lnTo>
                  <a:pt x="0" y="0"/>
                </a:lnTo>
                <a:lnTo>
                  <a:pt x="190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34290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5440" y="39466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908840" y="211788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2362320"/>
            <a:ext cx="686160" cy="686160"/>
          </a:xfrm>
          <a:custGeom>
            <a:avLst/>
            <a:gdLst/>
            <a:ahLst/>
            <a:rect l="0" t="0" r="r" b="b"/>
            <a:pathLst>
              <a:path fill="none" w="1906" h="1906">
                <a:moveTo>
                  <a:pt x="0" y="1906"/>
                </a:moveTo>
                <a:lnTo>
                  <a:pt x="1059" y="1906"/>
                </a:lnTo>
                <a:lnTo>
                  <a:pt x="1059" y="0"/>
                </a:lnTo>
                <a:lnTo>
                  <a:pt x="190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46280" y="4479840"/>
            <a:ext cx="7792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umeri indicano le rispettive connessioni; da sinistra a d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sono prima le sorgenti e poi le destinazioni TC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li switch passano anche due altri tipi di traff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disturbo d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tipo CBR/VB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65240" y="2589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65240" y="30463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336840" y="2589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6680" y="274176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022640" y="357984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99160" y="2719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147080" y="25671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27960" y="30243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ATM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menta in blocchi di 48 by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bufferizza in coda FI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pone in celle con un header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 fine frame (1 sull’ultima cella, 0 altriment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o lunghezza del frame AAL (valido solo sull’ultima cell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o indicatore di connes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smette le celle sul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ATM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ve le c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ssembla le celle in un frame A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o della correttezza del fram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numero di byte ricevuti è pari al valore della cella con FLAG END ON, passa il frame allo strato superi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menti scarta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Questa operazione è in realtà dello strato AAL5, e rientra nelle normali funzioni dello strato di adattamento di controllo dell’integrità del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5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AT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elle deivanti da traffico “utile” UB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ate con traffico di disturb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izzate in una coda FIFO, controllata da un’altra coda FIFO, riempita da traffico con priorità maggi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 quest’ultima coda ci sono delle celle servile per pri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menti servi quelle della prima co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te con tempo di servizio pari all’inverso della banda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ardate di un tempo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609480"/>
            <a:ext cx="7772400" cy="15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 AT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ultiplate usando il campo indicatore di conness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elle del traffico di disturbo vengono scar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elle del traffico con priorità vengono scar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elle del traffico UBR vengono inoltrate al successivo n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chema dello switch è il seg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95680"/>
            <a:ext cx="10666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794120"/>
            <a:ext cx="641880" cy="541800"/>
          </a:xfrm>
          <a:custGeom>
            <a:avLst/>
            <a:gdLst/>
            <a:ahLst/>
            <a:rect l="0" t="0" r="r" b="b"/>
            <a:pathLst>
              <a:path fill="none" w="1783" h="1505">
                <a:moveTo>
                  <a:pt x="0" y="15"/>
                </a:moveTo>
                <a:lnTo>
                  <a:pt x="309" y="0"/>
                </a:lnTo>
                <a:lnTo>
                  <a:pt x="1511" y="1505"/>
                </a:lnTo>
                <a:lnTo>
                  <a:pt x="1783" y="15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4794120"/>
            <a:ext cx="641880" cy="541800"/>
          </a:xfrm>
          <a:custGeom>
            <a:avLst/>
            <a:gdLst/>
            <a:ahLst/>
            <a:rect l="0" t="0" r="r" b="b"/>
            <a:pathLst>
              <a:path fill="none" w="1783" h="1505">
                <a:moveTo>
                  <a:pt x="1783" y="15"/>
                </a:moveTo>
                <a:lnTo>
                  <a:pt x="1474" y="0"/>
                </a:lnTo>
                <a:lnTo>
                  <a:pt x="272" y="1505"/>
                </a:lnTo>
                <a:lnTo>
                  <a:pt x="0" y="150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648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5029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410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8006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2578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648320"/>
            <a:ext cx="991080" cy="305280"/>
          </a:xfrm>
          <a:custGeom>
            <a:avLst/>
            <a:gdLst/>
            <a:ahLst/>
            <a:rect l="0" t="0" r="r" b="b"/>
            <a:pathLst>
              <a:path fill="none" w="2753" h="848">
                <a:moveTo>
                  <a:pt x="0" y="0"/>
                </a:moveTo>
                <a:lnTo>
                  <a:pt x="2753" y="0"/>
                </a:lnTo>
                <a:lnTo>
                  <a:pt x="2753" y="848"/>
                </a:lnTo>
                <a:lnTo>
                  <a:pt x="0" y="848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8006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105520"/>
            <a:ext cx="991080" cy="305280"/>
          </a:xfrm>
          <a:custGeom>
            <a:avLst/>
            <a:gdLst/>
            <a:ahLst/>
            <a:rect l="0" t="0" r="r" b="b"/>
            <a:pathLst>
              <a:path fill="none" w="2753" h="848">
                <a:moveTo>
                  <a:pt x="0" y="0"/>
                </a:moveTo>
                <a:lnTo>
                  <a:pt x="2753" y="0"/>
                </a:lnTo>
                <a:lnTo>
                  <a:pt x="2753" y="848"/>
                </a:lnTo>
                <a:lnTo>
                  <a:pt x="0" y="848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52578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129528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36640" y="4411800"/>
            <a:ext cx="12398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o UBR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o di disturbo 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o con priot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cristaldi</dc:creator>
  <dc:description/>
  <dc:language>en-US</dc:language>
  <cp:lastModifiedBy>stefano cristaldi</cp:lastModifiedBy>
  <cp:revision>0</cp:revision>
  <dc:subject/>
  <dc:title>Architettura Classical IP over ATM </dc:title>
</cp:coreProperties>
</file>