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17960" y="6343560"/>
            <a:ext cx="3668760" cy="57240"/>
          </a:xfrm>
          <a:prstGeom prst="rect">
            <a:avLst/>
          </a:prstGeom>
          <a:solidFill>
            <a:srgbClr val="7a054a"/>
          </a:solidFill>
          <a:ln w="0">
            <a:noFill/>
          </a:ln>
        </p:spPr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77800" y="6377040"/>
            <a:ext cx="971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R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9410760" y="6485040"/>
            <a:ext cx="339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7AA1891-2897-4A98-BEAC-8FC9DDA4C21C}" type="slidenum">
              <a:rPr b="0" lang="en-US" sz="10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048120" y="6400800"/>
            <a:ext cx="4419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Controllo di flusso - A. M. Cristal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131840"/>
            <a:ext cx="9891720" cy="152640"/>
            <a:chOff x="0" y="1131840"/>
            <a:chExt cx="9891720" cy="152640"/>
          </a:xfrm>
        </p:grpSpPr>
        <p:sp>
          <p:nvSpPr>
            <p:cNvPr id="6" name=""/>
            <p:cNvSpPr/>
            <p:nvPr/>
          </p:nvSpPr>
          <p:spPr>
            <a:xfrm>
              <a:off x="0" y="1131840"/>
              <a:ext cx="989172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760f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246320"/>
              <a:ext cx="989172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5ab7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228600" y="6324480"/>
            <a:ext cx="304920" cy="347760"/>
            <a:chOff x="228600" y="6324480"/>
            <a:chExt cx="304920" cy="347760"/>
          </a:xfrm>
        </p:grpSpPr>
        <p:grpSp>
          <p:nvGrpSpPr>
            <p:cNvPr id="9" name=""/>
            <p:cNvGrpSpPr/>
            <p:nvPr/>
          </p:nvGrpSpPr>
          <p:grpSpPr>
            <a:xfrm>
              <a:off x="228600" y="6324480"/>
              <a:ext cx="299880" cy="322560"/>
              <a:chOff x="228600" y="6324480"/>
              <a:chExt cx="299880" cy="322560"/>
            </a:xfrm>
          </p:grpSpPr>
          <p:sp>
            <p:nvSpPr>
              <p:cNvPr id="10" name=""/>
              <p:cNvSpPr/>
              <p:nvPr/>
            </p:nvSpPr>
            <p:spPr>
              <a:xfrm>
                <a:off x="338040" y="6327720"/>
                <a:ext cx="190440" cy="2113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V="1">
                <a:off x="228600" y="6324480"/>
                <a:ext cx="195120" cy="21456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31840" y="6443640"/>
                <a:ext cx="189000" cy="20340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V="1">
                <a:off x="325440" y="6435720"/>
                <a:ext cx="198360" cy="2113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66840" y="6356520"/>
                <a:ext cx="39600" cy="3960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60440" y="6465960"/>
                <a:ext cx="41400" cy="3816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55600" y="6472080"/>
                <a:ext cx="39600" cy="3960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58920" y="6581880"/>
                <a:ext cx="39600" cy="4140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231840" y="6350040"/>
              <a:ext cx="301680" cy="322200"/>
              <a:chOff x="231840" y="6350040"/>
              <a:chExt cx="301680" cy="322200"/>
            </a:xfrm>
          </p:grpSpPr>
          <p:sp>
            <p:nvSpPr>
              <p:cNvPr id="19" name=""/>
              <p:cNvSpPr/>
              <p:nvPr/>
            </p:nvSpPr>
            <p:spPr>
              <a:xfrm>
                <a:off x="345960" y="6350040"/>
                <a:ext cx="187560" cy="2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V="1">
                <a:off x="231840" y="6350040"/>
                <a:ext cx="196920" cy="210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3280" y="6465960"/>
                <a:ext cx="190440" cy="206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V="1">
                <a:off x="333360" y="6458040"/>
                <a:ext cx="195120" cy="21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71520" y="6378480"/>
                <a:ext cx="39600" cy="3960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6560" y="6488280"/>
                <a:ext cx="39600" cy="3816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63520" y="6494400"/>
                <a:ext cx="39600" cy="3960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58920" y="6605640"/>
                <a:ext cx="39600" cy="4140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27400" y="6343560"/>
            <a:ext cx="3668760" cy="57240"/>
          </a:xfrm>
          <a:prstGeom prst="rect">
            <a:avLst/>
          </a:prstGeom>
          <a:solidFill>
            <a:srgbClr val="7a054a"/>
          </a:solidFill>
          <a:ln w="0">
            <a:noFill/>
          </a:ln>
        </p:spPr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8680" y="6308640"/>
            <a:ext cx="123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R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410760" y="6485040"/>
            <a:ext cx="339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511694A-3964-4DC8-A8D5-D9A3D585ECE6}" type="slidenum">
              <a:rPr b="0" lang="en-US" sz="1000" spc="-1" strike="noStrike">
                <a:solidFill>
                  <a:srgbClr val="003399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1131840"/>
            <a:ext cx="9891720" cy="152640"/>
            <a:chOff x="0" y="1131840"/>
            <a:chExt cx="9891720" cy="152640"/>
          </a:xfrm>
        </p:grpSpPr>
        <p:sp>
          <p:nvSpPr>
            <p:cNvPr id="70" name=""/>
            <p:cNvSpPr/>
            <p:nvPr/>
          </p:nvSpPr>
          <p:spPr>
            <a:xfrm>
              <a:off x="0" y="1131840"/>
              <a:ext cx="989172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760f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246320"/>
              <a:ext cx="989172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5ab7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39840" y="6267600"/>
            <a:ext cx="484200" cy="509400"/>
            <a:chOff x="339840" y="6267600"/>
            <a:chExt cx="484200" cy="509400"/>
          </a:xfrm>
        </p:grpSpPr>
        <p:grpSp>
          <p:nvGrpSpPr>
            <p:cNvPr id="73" name=""/>
            <p:cNvGrpSpPr/>
            <p:nvPr/>
          </p:nvGrpSpPr>
          <p:grpSpPr>
            <a:xfrm>
              <a:off x="339840" y="6267600"/>
              <a:ext cx="474480" cy="476280"/>
              <a:chOff x="339840" y="6267600"/>
              <a:chExt cx="474480" cy="476280"/>
            </a:xfrm>
          </p:grpSpPr>
          <p:sp>
            <p:nvSpPr>
              <p:cNvPr id="74" name=""/>
              <p:cNvSpPr/>
              <p:nvPr/>
            </p:nvSpPr>
            <p:spPr>
              <a:xfrm>
                <a:off x="517680" y="6272280"/>
                <a:ext cx="296640" cy="30780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339840" y="6267600"/>
                <a:ext cx="309600" cy="3157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3080" y="6438960"/>
                <a:ext cx="299880" cy="3049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98600" y="6427800"/>
                <a:ext cx="312480" cy="3160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54040" y="6311880"/>
                <a:ext cx="57240" cy="5724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1360" y="6470640"/>
                <a:ext cx="55440" cy="5724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5920" y="6483240"/>
                <a:ext cx="57240" cy="5724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2880" y="6647040"/>
                <a:ext cx="57240" cy="5724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44520" y="6300720"/>
              <a:ext cx="479520" cy="476280"/>
              <a:chOff x="344520" y="6300720"/>
              <a:chExt cx="479520" cy="476280"/>
            </a:xfrm>
          </p:grpSpPr>
          <p:sp>
            <p:nvSpPr>
              <p:cNvPr id="83" name=""/>
              <p:cNvSpPr/>
              <p:nvPr/>
            </p:nvSpPr>
            <p:spPr>
              <a:xfrm>
                <a:off x="525600" y="6303960"/>
                <a:ext cx="2984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44520" y="6300720"/>
                <a:ext cx="312840" cy="316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9200" y="6470640"/>
                <a:ext cx="300240" cy="30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504720" y="6461280"/>
                <a:ext cx="309600" cy="315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3400" y="6345360"/>
                <a:ext cx="57240" cy="5724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6040" y="6504120"/>
                <a:ext cx="57240" cy="5724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93840" y="6516720"/>
                <a:ext cx="54000" cy="5724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49360" y="6680160"/>
                <a:ext cx="57240" cy="57240"/>
              </a:xfrm>
              <a:prstGeom prst="ellipse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 txBox="1"/>
          <p:nvPr/>
        </p:nvSpPr>
        <p:spPr>
          <a:xfrm>
            <a:off x="3429000" y="6475320"/>
            <a:ext cx="3602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Controllo di </a:t>
            </a:r>
            <a:r>
              <a:rPr b="0" lang="en-US" sz="1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flusso</a:t>
            </a:r>
            <a:r>
              <a:rPr b="0" lang="en-US" sz="1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 - Antonio Massimo Cristal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20760" y="2971800"/>
            <a:ext cx="9264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Valutazione delle prestazioni di controllo di flusso del protocollo TCP in ambiente AT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313000" y="1633680"/>
            <a:ext cx="52815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esi di Laurea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ngegneria Elettro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30440" y="258840"/>
            <a:ext cx="65041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Book Antiqua"/>
                <a:ea typeface="Book Antiqua"/>
              </a:rPr>
              <a:t>Cristaldi Antonio Mass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0760" y="4572000"/>
            <a:ext cx="9264600" cy="31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latore: Prof.re Marco Listant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-relatore: Salvatore Cantor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(Ericsson Telecomunicazioni)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Vega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29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Congestion Avo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Stima di </a:t>
            </a:r>
            <a:r>
              <a:rPr b="1" i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BaseRTT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, minimo tra tutti gli 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Calcolo del valore atteso del throughput, in base alla dimensione della finestra trasmissiva e il</a:t>
            </a:r>
            <a:r>
              <a:rPr b="1" i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 Base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Confronto tra il ritmo trasmissivo e il throughput sti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Utilizzo di  due soglie di deci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i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Slow Start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modific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Prestazioni di Vega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848720" cy="3048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6781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TCP per reti ad alta veloc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981080"/>
            <a:ext cx="4114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ble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Limitata dimensione della finestra (16-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Il controllo di flusso del TCP è meno efficiente all’aumentare del prodotto banda X ritardo di propag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Stima del RTT poco prec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11560" y="3138480"/>
            <a:ext cx="4665600" cy="1911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762120" y="43434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Solu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Campo opzionale “</a:t>
            </a:r>
            <a:r>
              <a:rPr b="1" i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Window Scale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Uso del timest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Meccanismo P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Integrazione di TCP con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La pila TCP/IP è la più diffusa per trasmissioni di d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ATM è attualmente la tecnica di commutazione più promettente per le reti geografi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Problematiche dell’integrazio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Definizione di architetture per il supporto di IP su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Prestazioni di TCP su ATM in termini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Throughput 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Tempo di la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Equità nella condivisione delle risorse disponi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Architet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35080" y="2247840"/>
            <a:ext cx="4003560" cy="2421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638680" y="2050920"/>
            <a:ext cx="3797280" cy="252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876920" y="1676520"/>
            <a:ext cx="0" cy="3276360"/>
          </a:xfrm>
          <a:prstGeom prst="line">
            <a:avLst/>
          </a:prstGeom>
          <a:ln w="2556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2280" y="5099040"/>
            <a:ext cx="45720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LAN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52880" y="5022720"/>
            <a:ext cx="480060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Classical TCP/IP over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Qualità di servizio in reti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Specifiche UNI 4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Classi di serviz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per traffico real-time: CBR e V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per traffico dati: ABR e U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ABR ha meccanismi di controllo di flusso basati sul controllo del ritmo trasmissivo (Traffic Management 4.0) con garanzie sulla perd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BR trasporta in modo </a:t>
            </a: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best effort 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senza garanzie su perdita e ritar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Frammentazione in c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202280" y="2082960"/>
            <a:ext cx="5595840" cy="3435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18288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6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Le celle ATM trasportano 48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La congestione dei buffer degli switch provoca la perdita di c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La perdita di almeno una cella rende inutile il trasferimento delle altre componenti il pacc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Riduzione dell’effici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Elementi dell’anali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Parametri di siste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Dimensione del bufferdello switch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Dimensione  della finestra di tras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Dimensione del pacch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Numero di connessioni at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Parametro misurato: Through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hroughput aumenta all’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aumentare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 della dimensione del buffer, e al 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diminuire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 delle dimensioni di finestra, pacchetto e del numero di conness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Topologia di 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09760" y="1989000"/>
            <a:ext cx="7427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Rete a pacch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90720" y="1438200"/>
            <a:ext cx="6445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Inquadramento della 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l controllo di flusso in Internet: 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Evoluzione dei meccanismi di controllo di flu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Problematiche ap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Le classi di servizio nelle reti A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La qualità di serv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Il servizio best effort in ATM: UBR e UB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L’Integrazione tra TCP/IP e A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Le archite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Il trasporto di TCP in reti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UBR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Per superare i problemi per frammen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Partial Packet Dis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Early Packet Dis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Early Packet Discard con Random Early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Partial Packet Dis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Early Packet Dis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Simu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2960" y="3720960"/>
            <a:ext cx="4414680" cy="244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702320" y="3735360"/>
            <a:ext cx="4898880" cy="2503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332000" y="1430280"/>
            <a:ext cx="674388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Lo sviluppo dei meccanismi di controllo di flusso di TCP è in continua evolu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l trasporto </a:t>
            </a: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best-effort 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di ATM risulta economico e efficiente scegliendo parametri di sistemi e adottando UBR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Lo sviluppo di ABR consentirà di diversificare il traffico dati in flussi con differenti vincoli di Qualità di Serviz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Analogo sviluppo di Internet (ISI, </a:t>
            </a: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ntegrated Services Internet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Obiettivi del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Implementazione del protocollo Tahoe TC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Simulazione dei meccanismi protocollari di TC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nalisi del comportamento dei meccanismi di controllo di flusso di TCP in una rete AT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Il protocollo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La RFC 79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Controllo della trasmissio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il meccanismo a riscontri (ogni pacchetto ricevuto, ritarda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la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Sliding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Il timer di ritrasmissione: backoff esponenziale e controllo adat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08520" y="3422520"/>
            <a:ext cx="2736720" cy="1822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60480" y="3205080"/>
            <a:ext cx="4156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146160"/>
            <a:ext cx="99043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Tahoe e Reno</a:t>
            </a:r>
            <a:br>
              <a:rPr sz="3200"/>
            </a:b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029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TCP, secondo la RFC 793, funziona efficientemente solo in configurazioni punto-a-p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Definizione nel 1988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Slow 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Congestion Avo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Fast Retrans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nel 1990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Fas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Trasmis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00" y="1295280"/>
            <a:ext cx="97156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Recupero da situazioni di congest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Fast Retransmit: alla ricezione di 3 riscontri duplic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Ritrassmissione del pacchetto richiesto nel riscontro ricev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Attivazione dei meccanismi di recupero da situazioni di con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Meccanismi propos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Tahoe TC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Pausa nella trasmissione in attesa del riscontro del pacchetto ritrasm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Trasmissione in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Slow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Reno TC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Fast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7000" indent="-171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Pausa nella trasmissione in attesa che venga riscontrati metà dei pacchetti in trans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67000" indent="-171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Trasmissione di un pacchetto ogni riscontro ricevu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Riscontri sel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292800" y="1496880"/>
            <a:ext cx="3244680" cy="460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Per aumentare l’efficienza in situazioni di congestione, due propos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New Reno, un’evoluzione del Reno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SACK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Trasmessa alla sorgente l’informazione sui pacchetti già ricevuti quando si attiva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Fast Retrans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La sorgente ritrasmette soltanto i pacchetti pe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0" y="146160"/>
            <a:ext cx="990432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66cc"/>
                </a:solidFill>
                <a:latin typeface="Book Antiqua"/>
                <a:ea typeface="Book Antiqua"/>
              </a:rPr>
              <a:t>Nuove pro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CP </a:t>
            </a:r>
            <a:r>
              <a:rPr b="1" lang="en-US" sz="2200" spc="-1" strike="noStrike" u="sng">
                <a:solidFill>
                  <a:srgbClr val="003399"/>
                </a:solidFill>
                <a:uFillTx/>
                <a:latin typeface="Arial"/>
                <a:ea typeface="Arial"/>
              </a:rPr>
              <a:t>non 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riceve informazioni dirette dalla r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Le implementazioni precedenti sono </a:t>
            </a: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reat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na nuova tendenza è il comportamento </a:t>
            </a: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preventivo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la stima di parametri sullo stato della rete (R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valutazione di queste s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Risposta avviene per variazioni di tali vari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150000"/>
              <a:buFont typeface="Symbol"/>
              <a:buChar char=""/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n particolare, Vegas 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Nuovo meccanismo di ritras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Congestion Avo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79"/>
              </a:spcBef>
              <a:buClr>
                <a:srgbClr val="f95ab7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Meccanismo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Slow Start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modif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nio Massimo Cristaldi</dc:creator>
  <dc:description/>
  <dc:language>en-US</dc:language>
  <cp:lastModifiedBy>Antonio Massimo Cristaldi</cp:lastModifiedBy>
  <cp:revision>0</cp:revision>
  <dc:subject>Valutazione delle prestazioni del controllo di flusso del protocollo TCP in ambiente ATM</dc:subject>
  <dc:title>Controllo di flusso</dc:title>
</cp:coreProperties>
</file>