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 Control Protoco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i di Controllo della Congest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e implement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o cristaldi</dc:creator>
  <dc:description/>
  <dc:language>en-US</dc:language>
  <cp:lastModifiedBy>stefano cristaldi</cp:lastModifiedBy>
  <cp:revision>0</cp:revision>
  <dc:subject/>
  <dc:title>Transport Control Protocol TCP</dc:title>
</cp:coreProperties>
</file>